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jpeg" ContentType="image/jpeg"/>
  <Override PartName="/ppt/media/image22.wmf" ContentType="image/x-wmf"/>
  <Override PartName="/ppt/media/image21.wmf" ContentType="image/x-wmf"/>
  <Override PartName="/ppt/media/image17.jpeg" ContentType="image/jpeg"/>
  <Override PartName="/ppt/media/image15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9.wmf" ContentType="image/x-wmf"/>
  <Override PartName="/ppt/media/image18.wmf" ContentType="image/x-wmf"/>
  <Override PartName="/ppt/media/image2.jpeg" ContentType="image/jpeg"/>
  <Override PartName="/ppt/media/image14.wmf" ContentType="image/x-wmf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DEC4-536D-4528-9F3C-A7DA9BC7A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885B-4EC4-4A17-9443-4E1020AF7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994C-EE4B-4E8F-8DED-624CD70B4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63D1-CD96-4839-AAFC-76BD7B40B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16ED9-A3B1-4DCB-B17D-7B7B72FE3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A86C5-918C-4830-A437-274ABB9DD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BE375-3540-4E8E-BE66-EDD5A6CFF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4F212-C720-4729-AE09-37B822442C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75815-FA9D-4082-B153-28F93A781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4AE29-AC30-4C8D-8A98-70ACAE2A2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B60D0-3F8D-49F3-B713-8D3904E29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40AE4-178D-4E2C-A4BC-D7E494E3C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D4A9B-891D-4564-BE6F-F8F3575E6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59679-4764-460A-9BBD-CE576F95B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2C59-CD2B-4AD1-B37E-C21F3750A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6391F-2932-4079-9D3D-D7EEF01BD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9352-E979-4351-9449-532025AC49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3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BDD5-FC1E-44A8-97C1-11DBE4DE2E1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8DFC-36BA-4F2B-977B-8CC386F91A4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Évaluation Externe de la Qualité – E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bulles_CDC"/>
          <p:cNvPicPr/>
          <p:nvPr/>
        </p:nvPicPr>
        <p:blipFill>
          <a:blip r:embed="rId1"/>
          <a:stretch/>
        </p:blipFill>
        <p:spPr>
          <a:xfrm>
            <a:off x="1600200" y="3276720"/>
            <a:ext cx="2286000" cy="2190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B709-C425-4449-9ADE-CCC9BB88942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portante pour l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mesure des performances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32A7-2592-41F3-BDF3-B8CB8567452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06C1-294D-490C-A119-C97C7A9AD98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s programmes de contrôle d’efficacité/test de capacités sont des comparaisons inter laboratoires qui sont organisés régulièrement pour évaluer la performance des laboratoires d’analyses et la compétence du personne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80880" y="457200"/>
            <a:ext cx="83822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 (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4619-202F-41A0-B823-7FCB647C2B5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7440-EBAA-47A4-81DC-40489D83640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Un programme dans lequel de nombreux échantillons sont périodiquement envoyés individuellement à un groupe de laboratoires pour y être analysés et/ou identifiés puis, dans lequel les résultats de chaque laboratoire sont comparés à ceux des autres et/ou à une valeur assignée. Un rapport est envoyé aux laboratoires participants et aux autre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E5E7-2098-4B3D-AE51-B06C6DAE38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066680"/>
            <a:ext cx="3733920" cy="4597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rganisateur d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07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9"/>
          <p:cNvSpPr/>
          <p:nvPr/>
        </p:nvSpPr>
        <p:spPr>
          <a:xfrm flipV="1">
            <a:off x="1374840" y="2184120"/>
            <a:ext cx="4225680" cy="14328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13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20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227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Rapport de performanc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235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39"/>
          <p:cNvSpPr/>
          <p:nvPr/>
        </p:nvSpPr>
        <p:spPr>
          <a:xfrm>
            <a:off x="6629400" y="32767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our des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cessus de 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1219320" y="22860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échantillon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envoyés réguliè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6473880" y="4648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p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pport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242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6"/>
          <p:cNvSpPr/>
          <p:nvPr/>
        </p:nvSpPr>
        <p:spPr>
          <a:xfrm>
            <a:off x="4267080" y="59119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Actions Cor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cument"/>
          <p:cNvSpPr/>
          <p:nvPr/>
        </p:nvSpPr>
        <p:spPr>
          <a:xfrm>
            <a:off x="4419720" y="472428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08E5-3C72-43E9-BF59-04F83509419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5C12-42AC-4F30-A0C1-F77E691E5A7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255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257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26"/>
          <p:cNvCxnSpPr>
            <a:stCxn id="261" idx="2"/>
            <a:endCxn id="263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6" name="Text Box 30"/>
          <p:cNvSpPr/>
          <p:nvPr/>
        </p:nvSpPr>
        <p:spPr>
          <a:xfrm>
            <a:off x="1371600" y="5334120"/>
            <a:ext cx="217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discussion entre laborato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T: Rôles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apport PT final reç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270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271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274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4"/>
          <p:cNvSpPr/>
          <p:nvPr/>
        </p:nvSpPr>
        <p:spPr>
          <a:xfrm>
            <a:off x="4648320" y="365760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sés de la même façon avec mê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4343400" y="2971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0"/>
          <p:cNvSpPr/>
          <p:nvPr/>
        </p:nvSpPr>
        <p:spPr>
          <a:xfrm>
            <a:off x="6400800" y="2286000"/>
            <a:ext cx="18288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93C1-222B-44DA-8E70-0BEB59F18B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09480" y="609480"/>
            <a:ext cx="8229600" cy="4220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’information provenant d’une participation à un programme de PT doit conduire à une amélioration au laborato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5"/>
          <p:cNvSpPr/>
          <p:nvPr/>
        </p:nvSpPr>
        <p:spPr>
          <a:xfrm>
            <a:off x="4572000" y="45720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C4B7-3774-4C97-89F2-F76507EFDDB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28600" y="16002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ultats affectés par des variables non liées aux échantillons des pat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programme de PT ne détectera pas tous les problèm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détectera pas les problèmes liés aux procédures pré et post analyt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Limites des 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7BF6-9519-49FD-BD98-A0CB2FD112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tres méthodes d’EEQ</a:t>
            </a:r>
            <a:br>
              <a:rPr sz="32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/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05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08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de réfé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Périphé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12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ont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14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17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20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23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26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27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30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31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34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37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40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CFCC-77F5-4AED-ACBE-F2341B2334B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60AE-4384-4193-BFF9-7C311F57E3A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é par un laboratoir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ée sur des tâches de sang sèches, sur des sér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n pratiquée en aveu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tistiquement signific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e en premier pour les tests rapides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7" descr="_crop"/>
          <p:cNvPicPr/>
          <p:nvPr/>
        </p:nvPicPr>
        <p:blipFill>
          <a:blip r:embed="rId1"/>
          <a:stretch/>
        </p:blipFill>
        <p:spPr>
          <a:xfrm>
            <a:off x="6705720" y="4267080"/>
            <a:ext cx="1657080" cy="25909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CE88-ED9C-479C-BF3F-79996B7CF5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704A-CF0C-4CF6-84F0-935E73C3FA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contrôle 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hantillons choisis au has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biais d’échantillonnage systémat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atiquement signific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olution de désacc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tro information effic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premier pour les lames de tubercul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28" descr="compound_mic_steroscopic_mic"/>
          <p:cNvPicPr/>
          <p:nvPr/>
        </p:nvPicPr>
        <p:blipFill>
          <a:blip r:embed="rId2"/>
          <a:srcRect l="17806" t="11998" r="8903" b="0"/>
          <a:stretch/>
        </p:blipFill>
        <p:spPr>
          <a:xfrm>
            <a:off x="2895480" y="4556160"/>
            <a:ext cx="2241720" cy="1996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6"/>
          <p:cNvSpPr/>
          <p:nvPr/>
        </p:nvSpPr>
        <p:spPr>
          <a:xfrm>
            <a:off x="5334120" y="51814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2C43-8658-43EF-827B-050B27C1C4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464D-A7BA-42E6-9CAD-A25F3B2A53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577D-6DDB-44D5-98EA-4434EAC5439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l’importance de l’évaluation externe de la qualité (EEQ) dans l’amélioration de la qualité des résultats d’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crire au moins trois méthodes d’EEQ ainsi que leurs avantages et inconvén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baucher une méthode afin d’investiguer un résultat incorrect d’un échantillon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67A0-12C3-447C-9611-427729EA9C2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2B2C-1CF4-41D7-99B5-84F1137DC19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 relecture pour la recherche de bacille acido-alcoolo-résistants sur des lames choisies en ouvert et sur des lames sélectionnées de façon aléatoire en aveugle</a:t>
            </a:r>
            <a:endParaRPr b="0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5" descr="?attid=0"/>
          <p:cNvPicPr/>
          <p:nvPr/>
        </p:nvPicPr>
        <p:blipFill>
          <a:blip r:embed="rId1"/>
          <a:stretch/>
        </p:blipFill>
        <p:spPr>
          <a:xfrm>
            <a:off x="609480" y="2900520"/>
            <a:ext cx="807732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16D1-3CAE-4FA3-97ED-89CFF3232A4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sur si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04920" y="1219320"/>
            <a:ext cx="883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btenir une image réaliste des pratiques du laborato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urnit une assistance dans les domaines qui posent un problè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304920" y="5791320"/>
            <a:ext cx="4419360" cy="70380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Groupe extérieur Organ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800600" y="4267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Visites Pério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0E3C-857F-42FE-863F-5EA0FDAB1F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s performances avant et après le contrôle sur site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3505320" y="6461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2:6(4):340-3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304920" y="1371600"/>
          <a:ext cx="8076960" cy="4915080"/>
        </p:xfrm>
        <a:graphic>
          <a:graphicData uri="http://schemas.openxmlformats.org/drawingml/2006/table">
            <a:tbl>
              <a:tblPr/>
              <a:tblGrid>
                <a:gridCol w="3235320"/>
                <a:gridCol w="2019240"/>
                <a:gridCol w="2822400"/>
              </a:tblGrid>
              <a:tr h="34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1.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performances des laboratoires avant et après le contrôle par check-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ck-li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nt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ès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t à s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contamination des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sinfec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ubelle (couverte) pour les déchets biolog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bl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techniciens ne se lavent pas les 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que de réa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 prélèvement de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e tenue des regist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iquetage incorrect des lames/récipi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5042-0837-434A-9FAA-E50006A34D0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7FAF-B7A4-43A8-A87A-5D0C3C334D8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Test de capacités et 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1600200"/>
          <a:ext cx="8305920" cy="3809880"/>
        </p:xfrm>
        <a:graphic>
          <a:graphicData uri="http://schemas.openxmlformats.org/drawingml/2006/table">
            <a:tbl>
              <a:tblPr/>
              <a:tblGrid>
                <a:gridCol w="4121280"/>
                <a:gridCol w="2112840"/>
                <a:gridCol w="2071800"/>
              </a:tblGrid>
              <a:tr h="544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tests de capacités (PT) et du recontrôle (R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hode/Caractéristiq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inter laboratoir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simu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vr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 /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s et ressources nécessai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ytes évalu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uc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515E-B65B-441D-A5BA-AA2F538FFF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F993-C775-425B-9E09-A18174AD07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articipation EEQ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ommandée pour tous les laborato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se par I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397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399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21F4-776B-44DE-B334-0C7AF790FC4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rocessus de ges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et analyser les échantillons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les échantillons d’EEQ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toutes les activit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vestiguer les défici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ndre des mesures corr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 les résult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 rot="16200000">
            <a:off x="3695760" y="5142960"/>
            <a:ext cx="609480" cy="838440"/>
          </a:xfrm>
          <a:prstGeom prst="downArrow">
            <a:avLst>
              <a:gd name="adj1" fmla="val 50000"/>
              <a:gd name="adj2" fmla="val 3439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3D06-E516-4689-81C8-9C6190F5D65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7110-9D85-497D-B18A-95D57BB9F00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performances 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5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6248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 l’é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ost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urnisseur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D5A7-867F-4BD2-8C00-E05726F816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3933-0669-405D-BBA5-D1213DCAA7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’EEQ devrai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les</a:t>
            </a:r>
            <a:br>
              <a:rPr sz="2400"/>
            </a:b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5334120" y="1371600"/>
            <a:ext cx="3504960" cy="3276720"/>
          </a:xfrm>
          <a:custGeom>
            <a:avLst/>
            <a:gdLst>
              <a:gd name="textAreaLeft" fmla="*/ 799920 w 3504960"/>
              <a:gd name="textAreaRight" fmla="*/ 2705040 w 350496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ac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cor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1F7A-5747-4F0C-A25F-A2C1CC9B368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6BB8-3D0A-4948-866B-9F1AEA93CEA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système utilisé pour vérifier objectivement les performances d’un laboratoire en utilisant une agence ou des installations exter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laboratoires devraient participer à une 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existe plusieurs méthodes pour conduire une EEQ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d’EEQ doivent être traités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84CE-AD1C-4EE1-AF4B-05582329834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8FB2-7767-4BC4-B0AA-0C4FF4F4044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utilisant des ressources précieuses, utiliser au mieux les résulta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ne devrait pas être une puni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lle devrait être vue comme un outil d’amélio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des éléments critiques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bd07156_"/>
          <p:cNvPicPr/>
          <p:nvPr/>
        </p:nvPicPr>
        <p:blipFill>
          <a:blip r:embed="rId1"/>
          <a:stretch/>
        </p:blipFill>
        <p:spPr>
          <a:xfrm>
            <a:off x="5943600" y="3049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12DF-CC77-44C5-8F66-7B38D49550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9122-0B8A-40A6-BEFE-11EB1F9F86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7D28-C3B7-48AE-AD7E-DEBE32E7923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 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n nouveau superviseur nommé au laboratoire a commencé à revoir les résultats antérieurs d’EEQ et observe que la performance des colorations de Gram a été mauvaise plusieurs fois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« Comment le laboratoire devrait il investiguer ce problème ?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4CDA-E14D-4096-A51E-85C1B9857A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C4A1-2F92-48A4-B47C-C09BD0DD97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040" y="182880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50C9-9196-485F-9D32-13C330DD273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C575-C8D8-444F-8AE0-C3C18012C7E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75" descr="bulles_def"/>
          <p:cNvPicPr/>
          <p:nvPr/>
        </p:nvPicPr>
        <p:blipFill>
          <a:blip r:embed="rId1"/>
          <a:stretch/>
        </p:blipFill>
        <p:spPr>
          <a:xfrm>
            <a:off x="457200" y="129528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22E2-2F79-4D54-A8C7-32E16779430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E76B-D1E8-42C6-A483-E4A5BB81C31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7" name="Picture 66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C17C-39D4-4609-8586-E7BA78D7157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Évaluation Externe de la qualité</a:t>
            </a: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Système servant à vérifier objectivement la performance des laboratoires en utilisant une agence ou des installations externes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ECC1-0DD3-4876-B39C-F9CD4B6705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0576-5EB3-4C93-891E-F49680736C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0" descr="Untitled-11"/>
          <p:cNvPicPr/>
          <p:nvPr/>
        </p:nvPicPr>
        <p:blipFill>
          <a:blip r:embed="rId1"/>
          <a:stretch/>
        </p:blipFill>
        <p:spPr>
          <a:xfrm>
            <a:off x="228600" y="1600200"/>
            <a:ext cx="853452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MCBS01691_0000[1]"/>
          <p:cNvPicPr/>
          <p:nvPr/>
        </p:nvPicPr>
        <p:blipFill>
          <a:blip r:embed="rId1"/>
          <a:stretch/>
        </p:blipFill>
        <p:spPr>
          <a:xfrm>
            <a:off x="7086600" y="4495680"/>
            <a:ext cx="1424160" cy="2362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80880" y="1873080"/>
            <a:ext cx="87631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araison entre différents sites d’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mier avertissement sur les problèmes syst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uve objective de la qualité des analys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domaines ayant besoin d’être amélior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besoin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12A6-2354-40DA-A662-4393B4E4445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5F1E-EC72-48BB-B8B4-71E59055D89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Externe de la Qualité (EEQ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5DA7-6EDD-4D10-89E8-49267EDA31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énéfices de l’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f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é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029200" y="12952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bjectif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rienté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Santé pub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24E5-587C-46E0-A213-63D94F24F4F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0690-2504-4285-8048-60DFB94DBD2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2" descr="Untitled-10"/>
          <p:cNvPicPr/>
          <p:nvPr/>
        </p:nvPicPr>
        <p:blipFill>
          <a:blip r:embed="rId1"/>
          <a:stretch/>
        </p:blipFill>
        <p:spPr>
          <a:xfrm>
            <a:off x="533520" y="438120"/>
            <a:ext cx="79246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6T15:58:19Z</dcterms:modified>
  <cp:revision>3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